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F57-719C-41B7-A947-53C4940D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C5C-89D6-49D5-BE49-66685281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C72-5E0B-4966-9CBD-06F45FDC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EC4-DC25-43F1-915F-AA29F559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DEA-9272-4B1C-86F1-57D74869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DBA-0824-4E34-A963-345F0573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B53-36D8-45ED-899A-6F3CCB4A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3ED-C082-4CAC-A447-A4C55219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A5A-A6F2-4269-9800-70576FB0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88B-BAB9-4D1B-B7E1-E1F5732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43D-7D27-4A2B-B74C-FF9F861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848-6F2F-4967-9981-4E0EF58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0B9-A272-40D6-9A62-3E475349D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8-1  Nature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 =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ter has tiny particles that are alway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209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as particles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lecules o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assumptions of the kinet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9718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Particles in gas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small, hard spheres wit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asically no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otion of ga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is fast, constant and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4114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es fill their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572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 why we can sm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 when its on when it is shut off, eventually we can’t smell anymore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ollisions between partic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a gas are perfect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astic.  Kinetic energy transferred from o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 to another without loss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es from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ce exerted by a gas per unit surface area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200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causes gas pres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657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multaneous collision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illions of rapidly moving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in a gas with an ob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572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do we call i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ere there are no partic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cuum –empty space, no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mospheric pressur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447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familiar to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905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used by the colliding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toms and molecules in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2362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creases as you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ve away from the earth because the density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measur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ir pressure?  A barometer, of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657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 unit is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scal 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191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rmal atmospheric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essure = 100,000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648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P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ndard temp and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temp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0 deg C and a pressure of 101.3 k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an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371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absorb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and store it in the particle itself, but temp does not 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rest of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speeds up the particles, which increases the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35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of atoms and molecu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t a given temp have wide range of kinetic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4191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of the particles are in the middl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state of matt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oes not change the average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Kinetic Energy and Kelvin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particles cool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e know they slow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828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ory say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y will eventually stop. = absolut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362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lute zer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not been achieved in the lab, but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743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Kelvin scale incorporat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solute zero, starting the scale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6576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kelvin temp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rectly proportional to the average kinetic energy of the particles of the sub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4:05:52Z</dcterms:created>
  <dc:creator>jpak</dc:creator>
  <dc:description/>
  <dc:language>en-US</dc:language>
  <cp:lastModifiedBy>Farwell Area Schools</cp:lastModifiedBy>
  <dcterms:modified xsi:type="dcterms:W3CDTF">2008-12-16T14:15:06Z</dcterms:modified>
  <cp:revision>9</cp:revision>
  <dc:subject/>
  <dc:title>Note Guide 8-1  Nature of Gases</dc:title>
</cp:coreProperties>
</file>